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13B-CC95-422A-BE58-EA21489B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C21-18E7-45D5-B7AA-B61DE30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0E8-B1D9-41F2-9477-5459F6D4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77A-772F-4147-B318-7E8822E2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BC6-CEEA-4D4B-BB0D-9972F583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57B-E347-40BD-8F79-510EB7A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1B2-C6C8-4B60-B78A-FC10839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5A0-BC66-44B7-8A94-0374749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CF4-DE92-4FF5-9CFD-363347AB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9E0-D89D-461C-A1F0-4CF0AE2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D39-A82D-4281-8147-C75E65B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C87-3D90-4BBC-B47A-12DD34B4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ED17-FBE9-4F2D-AF57-665FB4241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changes relative to temperature and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ke McDermott, Alex Pak , and Iain Trac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l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when a substance’s vapor pressure is greater then one atm and its environment is at room tem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bstance undergoing sublimation goes directly from a solid state to a gaseous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kentchemistry.com/images/links/matter/Phasewater.gif"/>
          <p:cNvPicPr/>
          <p:nvPr/>
        </p:nvPicPr>
        <p:blipFill>
          <a:blip r:embed="rId1"/>
          <a:stretch/>
        </p:blipFill>
        <p:spPr>
          <a:xfrm>
            <a:off x="838080" y="1371600"/>
            <a:ext cx="72392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ple Point and Critical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iple Point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oint where all phases of a compound exist in 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ritical Point 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oint where the combination of temperature and pressure prohibits a liquid 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s on a Triple Point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es represent phase boundaries i.e. the boundaries between st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3:52:14Z</dcterms:created>
  <dc:creator>14itracton</dc:creator>
  <dc:description/>
  <dc:language>en-US</dc:language>
  <cp:lastModifiedBy>14itracton</cp:lastModifiedBy>
  <dcterms:modified xsi:type="dcterms:W3CDTF">2012-04-26T14:02:58Z</dcterms:modified>
  <cp:revision>6</cp:revision>
  <dc:subject/>
  <dc:title>Phase changes relative to temperature and pressure</dc:title>
</cp:coreProperties>
</file>